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E71-2D26-4C05-A232-56D57C8F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597-012A-43A0-AF24-7117CC7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5AE7-6451-4D37-99CE-311B538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5752-0F52-42EA-9EA3-5E9EE79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C4B8E-3812-4CD9-81C5-F91DA310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AB94-D00D-4E14-BC5D-924D26C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B74D6-731C-44A5-9F6D-2A91849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62BE3-3E57-44C9-A5E7-1D1780C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21333-D6CB-4707-93AA-C4EF63C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6614-7697-4B1D-8D5A-0EAA170E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D013F-0A57-4C1D-8DF6-C632656E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13D8D-93C2-4DD9-8D09-0B0465A9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7E2-802B-4525-8301-DCAF049C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91FD8-EC21-467D-8605-4FCA9899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A3491-8F29-4816-8B97-AB1C67E2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7DAA-4C8B-4A19-8270-A2DF3B0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3E79-AB85-47D8-A1F9-B125F5F3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02637-DDB8-4451-8AD4-16A35A31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1C464-747F-4326-AED5-8FE86DDB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11475-B033-4570-ACA2-F8AC7F9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A994-6B23-4754-BD9F-CF82860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6B0CB-6F9B-4891-B360-5C6AC02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D9DA0-7462-4ECD-87F9-ABA4411D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508-39DB-4603-A3BB-0EB72660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D8093-00CA-4FE6-A377-388AE0A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54D0-179B-4166-A10B-B4C8541F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97480-6EF8-4354-8D28-EA24C9D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95013-05CE-4320-99B4-7162C6C4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1227-F66C-4EFE-B8D9-C5B17CDC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51955-D46F-4C55-84ED-8BB05549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6F6A-77E5-4B0C-8D22-6BD67D3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D8A70-B966-4B0B-AC5A-23B7A2B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BAEAA-B66B-44A9-96B9-B442226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5DB2E-53B5-47DF-AB57-A465178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846-40F1-45AE-8060-59850241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68C01-7C34-45BF-ABC7-4C541CE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F1CAF-BAB9-40DC-8234-0CF8F86F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EA0F6-723C-416D-A973-265EB6A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E137F-EB82-4BE8-AF97-3E9846AF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2BC6D-CDF3-4EC7-AD84-5A1B1FF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91ECC-75CB-438F-8F1A-A9626BBF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73897-76F3-4F03-8EAA-4EC1494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FA469-4E97-4480-9E0B-61812CE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1CC2D-DE53-4909-BD6A-BEBCE78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C59D5-D352-4963-9742-20024E0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C9C-7289-4CDC-ADAA-FAA3310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2ED58-4424-45D7-A402-73FC5F4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C013E-2D58-4821-AC56-2B15401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06D80-8FE1-4409-B09E-59416F37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2E916-BD5F-4665-8122-ED7F8409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95459-C910-4F4F-9657-5D4686D3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4E6-4A24-41C5-A44E-B29F656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CF74-CD12-4978-85EA-4F4DDFE7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8484-B780-4EC6-A6AB-46028E4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588-8327-4896-9772-82CC66DF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A7B-CF0D-46DA-94DF-7028C75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81F-0155-4F3F-8CE7-C6BB9DE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42A1-D710-4FD3-81AE-71FAB63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F6F7-A9AE-40CD-8C0E-B6DC8AA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E085-3A55-4094-A9B8-8F6ADDF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F74-C959-4A47-8961-B5305B9B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1085-0B49-414B-867E-85089E67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94F4-144C-4055-9217-85080351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A0D4-261C-4A64-8EF4-C6702F9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4EEC-1FDF-45CB-AF96-DF2071B5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90F8-FDE2-4F0B-ABBC-62AF1A0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F846-0891-4955-9D58-284D06F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CE1-FD01-4E51-9E3F-8EF0F58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358F-CCB7-4267-9894-4BC72A2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EE1A-56BE-4A6A-B941-815EBC8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55AD-ED12-403B-9B5F-F90C626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63AA-FDD4-42B1-9449-9388D89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E2B3-F29E-4BDE-A067-ADC00C68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CB9E-EFDE-4B66-987B-51791584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53DE-4108-4DDE-9073-D799151D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6C87-08F4-4406-836B-2350143F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CF76-708F-460F-A92A-6D3747F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B5C9-951E-4B1D-9D18-3A3B490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072-22E7-45DF-90C5-3E1A65FB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6536-4A68-4084-861E-25807B5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C291-F15F-4010-ABAB-94AC9E8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8592-6620-44E5-98E3-B283A9C4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95CE-3F72-41B1-84DC-0E90E62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BB33-9A2F-4195-96BD-6CA7121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426A-3124-450F-B83E-771C1BB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75E3-2C80-465E-9279-339BDF4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325E-D268-4DCC-AF68-CCB2A901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2327-D1A3-46F2-A526-E12E2D6B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732E-1DA8-47E0-9335-8E7604A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F40-7BBC-46F8-B226-2DC0220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9247-D480-455F-B2DA-B555F81A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C9E76-C250-4AAC-BC80-2889DF3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4C85-0BFF-4918-9E86-7A32EA1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B9C7-0438-4FE0-82B2-51CC1E2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C19DA-43F8-4E5F-AF48-DEC7F3E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B3CD9-433E-4DE5-9941-5C3F866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93E2-80E2-4C1D-B24D-4B2D380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F9B1-9FF1-4381-943D-74545C8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336E-D012-41C2-AC46-CA5C693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D04C-20D3-433E-B60F-11C02063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846-B1AE-48BC-82EC-842ED58B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64D3-800B-4D4F-8F7C-D969A41E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141A-ADED-46D7-AD70-FCD01E23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09FD-4812-469A-A148-7A5F7475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009A-E8B1-4B27-A63C-25B6E325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7476-E0C0-43C4-8B2B-92DFD29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7C4A-D7D2-474D-AC5D-AA0A6650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0C8E-57B7-4DCA-A7F0-DA11C5FB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A58D-DA9E-41AB-811D-888F7357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0413-77D7-4092-B424-A251565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1DA5-0270-4DE1-9D3D-7E8A2EA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C22-9BD1-48BE-8214-86A42F1F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3543-7710-4D6E-9DBE-876DD97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03AF-1951-4F41-BDFD-4065CC95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160C-7424-47B8-A969-3C0E0211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6CB5-E600-41B0-8087-E6B3395D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81C3-16A8-4A90-8F6A-3BFC32F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F75B3-75BD-4C2E-8307-F54FC647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4683-C384-4CF2-ABE5-35029FE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8974-239B-4D9B-A7C0-BE506FB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3CBF-CCD9-4E52-AF79-811559B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2D8F9-6320-4A1F-925E-E262344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C74-BA9B-49FA-9FA9-6AA1CC0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26EA-46DE-4D96-AEBC-19FD0A6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8B9C-FEFB-4F71-B66B-778A239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1635-E8FF-4AA2-B415-0705BFD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99DD-539F-4F48-9FF7-CECC6037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BFA9-1A1A-48F5-A47E-76D80178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57D4-88B5-4CF9-8F23-7B67B134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32FD-429F-462E-AA1A-88CA43F4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F73C-20DB-4BD9-8C0B-F9B3D2E6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D62D-3EC2-4BBD-9E4C-672CCC0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D554B-5523-4B88-9394-9992C0F1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67B-7A2E-4FE8-A204-31AA324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5592-FC6B-4EF1-9AE6-67A0025C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683D-7B40-4A5D-8A3B-4E7DFD2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6452-6728-4FCD-AED8-64A478B2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CB81-1DF0-474E-8BA5-2222A0E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D9D2-CB75-4ED0-A006-CC9DFF15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3371-6227-46EE-8938-E1F0FEEB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7D1F-D54A-485C-97BA-5946836D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1FB6F-5D88-4F79-889D-3554741C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3B083-CC4C-461B-9072-505D76D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68B18-AACE-4681-911F-33BC9DF3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252-BDCE-442A-BD9A-FD88770D47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9E1-7BA6-437C-9617-6A591208B1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CD7-33F8-4663-9CCA-05DBFFE117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7B7E-CC47-4022-8CF8-E2B8A0128A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DCE-22E3-4107-B251-2A1D822B75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A790-1137-4C33-B7BC-263EF46956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8AE-9BB3-4350-98CC-C5D7CCBABA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41D-B0F4-4F63-BF20-ED3FD68123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A00-E8D8-46F8-9052-C0ACE46DB9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29A-9ECC-4A98-BB15-388EFEE7C4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01E-4243-443F-9CAE-37E2171212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D58-6EC8-4BCD-908F-D0AA3DC6DD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0 Pozri len, poz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ri len, poz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ojho Pán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je pre t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ská drám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voje viny trpel Syn Bož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voj hriech Ote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v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ri len, pozri na jeho rany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ŕňovým ven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runova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ápený, bitý na kríži zmier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teľná úzk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mu z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naše v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šiel Pán spla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ás mohol Otcovi vrá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ásluhách svoji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hajca pr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ruku dáva na domov sláv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ho, kto srd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vzdá je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vedie k cieľu vytúžené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Otcovmu tró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ľný je prístup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smie v ňom náj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u istú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7:52:00Z</dcterms:modified>
  <cp:revision>32</cp:revision>
  <dc:subject/>
  <dc:title>Je veľký náš Pán, on slávy je Kráľ Nech do všetkých strán  spev vrúcnych znie chvál.</dc:title>
</cp:coreProperties>
</file>